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3EB-911F-441E-A286-44948CF9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C94-9698-4817-842F-3912091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2B3-46DE-4056-A1E4-420F57B6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06E-AE82-4AF3-94FB-E9E29AAF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6DA-7128-43A9-97AD-29314CDB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315-4495-43E1-AC25-BD308A0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FAF-4CF6-4FF2-97EA-7A8F05A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73F-A6B2-4D11-A64F-ED534C3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0F40-C7E7-40BF-865D-4D6DA1F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DCB8-8F14-4F11-8D7D-368E6875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B604-4B11-4DFF-A022-8C651FB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739-3F92-4806-84A0-2732328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DE49-4624-4B94-935C-028540A8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9DF-EB23-417B-8AC3-C73F786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AA7-E4C5-4EB2-86A0-BDB3733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EC47-1EF5-425B-8DE0-296DC11F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6A3-7576-43C1-B90F-7028E72A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489-DCE0-4353-8735-448921C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7BB-CF3C-4AED-9C15-D1AE0D4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B9C-C0E6-49F4-A7C2-3D2FB1B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A33-B148-4DDA-9226-C2B1483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CD4-1CD3-4E09-AB1F-049E06A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F1C-3325-4C15-8B23-5500DE0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089-8175-492A-B7CD-8F93AF6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2001-918B-42E7-84B9-68F65BF8781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71E7-428B-4A69-A16B-A16AC83642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ngs 9 –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26-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81952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13 and 14 have been combined into one class lesson.  This will allow us to expand some lessons later in this qu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57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 Appears To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-9; 2 Chron. 7:11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accepted the temple as a house of sacrifice for as long as th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bled themselves, and 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God and turn from wicked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He will hear them, forgive them, and will heal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must walk like his father and keep God’s comma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 Appears To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-9; 2 Chron. 7:11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urn from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sake God’s command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serve other go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cut off Israel from the l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cast this house out of His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make it a proverb and byword among all the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g Hiram Unhappy With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0-14; 2 Chron. 8: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ruction projects took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am given 20 cities in Galilee as payment for the trees and 4 ½ ton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am, displeased, gave the cities back as being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the cities “Cabul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ty, sandy, dr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Works of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5-27; 2 Chron. 8:3-10, 17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building projects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, fortified and enlarged sever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taxes from non-Israe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sraelites for soldiers, servants, officers, command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d a navy in the Mediterranean and the 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alth of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0:11-12, 14-29; 2 Chron. 9:13-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nor guards had shields of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vy brought in tons of gold from trades, taxes, tributes and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 horses and cha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me from everywhe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his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ar his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ng g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een of Sheba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0:1-13; 2 Chron. 9: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ba - located in southwestern part of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en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spices, gold, and precious stones to Solo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Solomon’s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we of Solomon’s wealth and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gave her gifts as she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1:44:20Z</dcterms:created>
  <dc:creator>Frank D Vines</dc:creator>
  <dc:description/>
  <dc:language>en-US</dc:language>
  <cp:lastModifiedBy>Frank D Vines</cp:lastModifiedBy>
  <dcterms:modified xsi:type="dcterms:W3CDTF">2005-08-21T13:25:35Z</dcterms:modified>
  <cp:revision>16</cp:revision>
  <dc:subject/>
  <dc:title>“Give Us A King” The United Kingdom</dc:title>
</cp:coreProperties>
</file>